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7992-8B3E-404F-B458-203F0E9415C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15A9-F3E7-4927-B883-7A2303D4E91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9604-E47C-47E8-BAF0-161067C4D64E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56E6-7AD0-442C-8158-72421699CA2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CCF9-041A-492F-A5A7-1447813ED47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C4AE-B0E8-4BE6-8A47-5E6E30DF726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EE7A-7396-4F7C-9FE8-DA467FF9A6B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CB3-D822-4F87-90A2-4871C10F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855-F8BD-4817-8EE8-06D8D50F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97E-E619-4CA6-8DC4-CA0654C5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CB3-5B3A-4F5E-BF0D-B45BA301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7B7F-30CB-40FF-AB19-7521993C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CB92-F00C-4724-96A3-2CBA1642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D503-DE22-438B-90C2-663B504D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6BCD-0D61-4587-BA15-E59A1C24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EBED-2F15-4912-A611-DE1D3D3D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33C1-D0C9-4BB6-9FB8-F83B85B1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94EA-1F1B-4755-9B55-32087EA3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F0B-FA21-45F9-8DB7-E0B048A3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213B-79C5-48FE-8337-400BE101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A530-7700-4B17-8065-1A8D6E64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6F44-30D3-46DF-A5F6-9E3D0880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D78F-3CBD-4A3F-8EF7-E52920FF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8711-D3B8-4520-9AB1-5FDEAF17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75F37-A0D6-4A48-AE00-B4F52EA6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759D-E49B-4259-B8C9-F95F84F2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135E-6636-486A-8C02-DADCFB02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3002A-E9AF-42F6-973B-B27A4865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FFD70-94F5-45A1-B5D1-7B2F8ED9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1D6-6098-45F4-A441-581E074E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EEF5-7D34-43B2-9560-020151A5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2FC96-8A93-4D8B-AE50-762FAA75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4E74D-A6A4-4CD3-A100-8C1C0EBC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BC398-562C-4723-9061-AF21B952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FA140-7C49-429D-9524-3C0AD595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24E88-C448-4C04-8008-7425400C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11D4B-067D-4D37-852F-00334351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E7E-2725-412F-8A07-37D2B29E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605-FC16-412C-910F-9F2ADE29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0D3-4619-4698-880F-26479763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959-6D77-4992-81D5-7754260F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E41-0DD0-490F-8870-62E4108C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159-0795-44F3-B6A6-3F118B90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2F8E-3748-49B1-8CD3-958DB29F8810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Kuva 6" descr="Ymk_Fin_RGB_png_50572.png"/>
          <p:cNvPicPr/>
          <p:nvPr/>
        </p:nvPicPr>
        <p:blipFill>
          <a:blip r:embed="rId2"/>
          <a:srcRect l="-16645" t="-59496" r="-6654" b="0"/>
          <a:stretch/>
        </p:blipFill>
        <p:spPr>
          <a:xfrm>
            <a:off x="0" y="0"/>
            <a:ext cx="2643120" cy="765000"/>
          </a:xfrm>
          <a:prstGeom prst="rect">
            <a:avLst/>
          </a:prstGeom>
          <a:ln w="0">
            <a:noFill/>
          </a:ln>
        </p:spPr>
      </p:pic>
      <p:pic>
        <p:nvPicPr>
          <p:cNvPr id="6" name="Kuva 7" descr="YMK-logo_rgb.jpg"/>
          <p:cNvPicPr/>
          <p:nvPr/>
        </p:nvPicPr>
        <p:blipFill>
          <a:blip r:embed="rId3"/>
          <a:srcRect l="0" t="0" r="9446" b="14074"/>
          <a:stretch/>
        </p:blipFill>
        <p:spPr>
          <a:xfrm>
            <a:off x="7400880" y="5214960"/>
            <a:ext cx="1743120" cy="16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uva 8" descr="Ymk_Fin_RGB_png_50572.png"/>
          <p:cNvPicPr/>
          <p:nvPr/>
        </p:nvPicPr>
        <p:blipFill>
          <a:blip r:embed="rId2"/>
          <a:srcRect l="-16645" t="-59496" r="-6654" b="0"/>
          <a:stretch/>
        </p:blipFill>
        <p:spPr>
          <a:xfrm>
            <a:off x="0" y="0"/>
            <a:ext cx="2643120" cy="76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5C01-7162-4668-8197-FDE787E68D2D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D143-7071-4D93-BC03-828D68B6D814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60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fa71f"/>
                </a:solidFill>
                <a:latin typeface="Arial"/>
              </a:rPr>
              <a:t>Petteri Huuska, ympäristösuunnittel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fa71f"/>
                </a:solidFill>
                <a:latin typeface="Arial"/>
              </a:rPr>
              <a:t>Petteri.huuska@hel.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618920" y="7920"/>
            <a:ext cx="7635960" cy="27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Helsingin energiarenessanssi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Kuvahaun tulos haulle järva hållbara"/>
          <p:cNvPicPr/>
          <p:nvPr/>
        </p:nvPicPr>
        <p:blipFill>
          <a:blip r:embed="rId1"/>
          <a:stretch/>
        </p:blipFill>
        <p:spPr>
          <a:xfrm>
            <a:off x="900000" y="1386000"/>
            <a:ext cx="6667560" cy="44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Helsingin energia- ja ilmastotavoitteet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000"/>
            <a:ext cx="851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elsingin KHK-päästöt -30 % 2020 (nyt -2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iilineutraali Helsinki vuonna 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älitavoite 2030 valmistelussa ilmastotyöryhmäll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elsinkiläisten energiankulutus -20%/as 2005-2020 (-1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usiutuvan energian osuus 20 %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32F6-7C5C-4387-958E-567FF6557CF1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n numeron paikkamerkki 5"/>
          <p:cNvSpPr/>
          <p:nvPr/>
        </p:nvSpPr>
        <p:spPr>
          <a:xfrm>
            <a:off x="758880" y="6002280"/>
            <a:ext cx="18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bfbfbf"/>
                </a:solidFill>
                <a:latin typeface="Arial"/>
                <a:ea typeface="Arial"/>
              </a:rPr>
              <a:t>Photo: Rhinoceero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Kaavio 9" descr=""/>
          <p:cNvPicPr/>
          <p:nvPr/>
        </p:nvPicPr>
        <p:blipFill>
          <a:blip r:embed="rId1"/>
          <a:stretch/>
        </p:blipFill>
        <p:spPr>
          <a:xfrm>
            <a:off x="262080" y="3560760"/>
            <a:ext cx="5321160" cy="27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62280" y="-12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Päästöjen jakauma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999800"/>
            <a:ext cx="7043760" cy="4286520"/>
          </a:xfrm>
          <a:prstGeom prst="rect">
            <a:avLst/>
          </a:prstGeom>
          <a:ln w="0">
            <a:noFill/>
          </a:ln>
        </p:spPr>
      </p:pic>
      <p:sp>
        <p:nvSpPr>
          <p:cNvPr id="146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A92B-3594-4A15-A679-31225CEF636C}" type="slidenum">
              <a:rPr b="0" lang="fi-FI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Kaavio 13" descr=""/>
          <p:cNvPicPr/>
          <p:nvPr/>
        </p:nvPicPr>
        <p:blipFill>
          <a:blip r:embed="rId2"/>
          <a:stretch/>
        </p:blipFill>
        <p:spPr>
          <a:xfrm>
            <a:off x="1109520" y="755640"/>
            <a:ext cx="7448760" cy="545616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61"/>
          <p:cNvGrpSpPr/>
          <p:nvPr/>
        </p:nvGrpSpPr>
        <p:grpSpPr>
          <a:xfrm>
            <a:off x="6877080" y="2205000"/>
            <a:ext cx="2411280" cy="1882440"/>
            <a:chOff x="6877080" y="2205000"/>
            <a:chExt cx="2411280" cy="1882440"/>
          </a:xfrm>
        </p:grpSpPr>
        <p:sp>
          <p:nvSpPr>
            <p:cNvPr id="149" name="TextBox 17"/>
            <p:cNvSpPr/>
            <p:nvPr/>
          </p:nvSpPr>
          <p:spPr>
            <a:xfrm>
              <a:off x="7021080" y="2205000"/>
              <a:ext cx="2267280" cy="18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Liikkumin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Kaukolämmity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rillislämmity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ähkölämmity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Kulutussähkö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Yhdyskuntajättee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6877080" y="2349000"/>
              <a:ext cx="144000" cy="144000"/>
            </a:xfrm>
            <a:prstGeom prst="rect">
              <a:avLst/>
            </a:prstGeom>
            <a:solidFill>
              <a:srgbClr val="bd4089"/>
            </a:solidFill>
            <a:ln w="9360">
              <a:solidFill>
                <a:srgbClr val="bd40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20"/>
            <p:cNvSpPr/>
            <p:nvPr/>
          </p:nvSpPr>
          <p:spPr>
            <a:xfrm>
              <a:off x="6877080" y="2651760"/>
              <a:ext cx="144000" cy="144000"/>
            </a:xfrm>
            <a:prstGeom prst="rect">
              <a:avLst/>
            </a:prstGeom>
            <a:solidFill>
              <a:srgbClr val="2082c7"/>
            </a:solidFill>
            <a:ln w="9360">
              <a:solidFill>
                <a:srgbClr val="2082c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21"/>
            <p:cNvSpPr/>
            <p:nvPr/>
          </p:nvSpPr>
          <p:spPr>
            <a:xfrm>
              <a:off x="6877080" y="2954520"/>
              <a:ext cx="144000" cy="144000"/>
            </a:xfrm>
            <a:prstGeom prst="rect">
              <a:avLst/>
            </a:prstGeom>
            <a:solidFill>
              <a:srgbClr val="e67d26"/>
            </a:solidFill>
            <a:ln w="9360">
              <a:solidFill>
                <a:srgbClr val="e67d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ectangle 22"/>
            <p:cNvSpPr/>
            <p:nvPr/>
          </p:nvSpPr>
          <p:spPr>
            <a:xfrm>
              <a:off x="6877080" y="3257280"/>
              <a:ext cx="144000" cy="144000"/>
            </a:xfrm>
            <a:prstGeom prst="rect">
              <a:avLst/>
            </a:prstGeom>
            <a:solidFill>
              <a:srgbClr val="5f377e"/>
            </a:solidFill>
            <a:ln w="9360">
              <a:solidFill>
                <a:srgbClr val="5f37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Rectangle 23"/>
            <p:cNvSpPr/>
            <p:nvPr/>
          </p:nvSpPr>
          <p:spPr>
            <a:xfrm>
              <a:off x="6877080" y="3560040"/>
              <a:ext cx="144000" cy="144000"/>
            </a:xfrm>
            <a:prstGeom prst="rect">
              <a:avLst/>
            </a:prstGeom>
            <a:solidFill>
              <a:srgbClr val="8eba3f"/>
            </a:solidFill>
            <a:ln w="9360">
              <a:solidFill>
                <a:srgbClr val="8eba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24"/>
            <p:cNvSpPr/>
            <p:nvPr/>
          </p:nvSpPr>
          <p:spPr>
            <a:xfrm>
              <a:off x="6877080" y="3862800"/>
              <a:ext cx="144360" cy="14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540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Tekstiruutu 23"/>
          <p:cNvSpPr/>
          <p:nvPr/>
        </p:nvSpPr>
        <p:spPr>
          <a:xfrm>
            <a:off x="1251000" y="5516640"/>
            <a:ext cx="252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MS PGothic"/>
              </a:rPr>
              <a:t>Teollisu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kstiruutu 24"/>
          <p:cNvSpPr/>
          <p:nvPr/>
        </p:nvSpPr>
        <p:spPr>
          <a:xfrm>
            <a:off x="2771640" y="5516640"/>
            <a:ext cx="153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MS PGothic"/>
              </a:rPr>
              <a:t>Kotitaloud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kstiruutu 25"/>
          <p:cNvSpPr/>
          <p:nvPr/>
        </p:nvSpPr>
        <p:spPr>
          <a:xfrm>
            <a:off x="4302000" y="5516640"/>
            <a:ext cx="1935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MS PGothic"/>
              </a:rPr>
              <a:t>Palvelut ja työpaikat (pl. kaupung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kstiruutu 26"/>
          <p:cNvSpPr/>
          <p:nvPr/>
        </p:nvSpPr>
        <p:spPr>
          <a:xfrm>
            <a:off x="5916600" y="5521320"/>
            <a:ext cx="2489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MS PGothic"/>
              </a:rPr>
              <a:t>Kaupungin palvelurakennukset ja joukkoliik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kstiruutu 27"/>
          <p:cNvSpPr/>
          <p:nvPr/>
        </p:nvSpPr>
        <p:spPr>
          <a:xfrm>
            <a:off x="4994280" y="6515280"/>
            <a:ext cx="4054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  <a:ea typeface="MS PGothic"/>
              </a:rPr>
              <a:t>Päästöt 2015 yht. 2650 kt CO</a:t>
            </a:r>
            <a:r>
              <a:rPr b="0" lang="fi-FI" sz="16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  <a:ea typeface="MS PGothic"/>
              </a:rPr>
              <a:t>-ekv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71640" y="334800"/>
            <a:ext cx="77724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Helsingin rakennuskanta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3640" y="836280"/>
            <a:ext cx="8515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elsinki kerrostalovaltainen         Puolet rakennettu1960-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upunki omistaa pienen osan           60-luku kuluttaa en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91FB-3FE3-48DC-B63A-D62353BF3118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ian numeron paikkamerkki 5"/>
          <p:cNvSpPr/>
          <p:nvPr/>
        </p:nvSpPr>
        <p:spPr>
          <a:xfrm>
            <a:off x="758880" y="6002280"/>
            <a:ext cx="18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bfbfbf"/>
                </a:solidFill>
                <a:latin typeface="Arial"/>
                <a:ea typeface="Arial"/>
              </a:rPr>
              <a:t>Photo: Rhinoceero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Kuva 2" descr=""/>
          <p:cNvPicPr/>
          <p:nvPr/>
        </p:nvPicPr>
        <p:blipFill>
          <a:blip r:embed="rId1"/>
          <a:stretch/>
        </p:blipFill>
        <p:spPr>
          <a:xfrm>
            <a:off x="4683240" y="1279440"/>
            <a:ext cx="4486320" cy="2657520"/>
          </a:xfrm>
          <a:prstGeom prst="rect">
            <a:avLst/>
          </a:prstGeom>
          <a:ln w="0">
            <a:noFill/>
          </a:ln>
        </p:spPr>
      </p:pic>
      <p:pic>
        <p:nvPicPr>
          <p:cNvPr id="169" name="Kuva 6" descr=""/>
          <p:cNvPicPr/>
          <p:nvPr/>
        </p:nvPicPr>
        <p:blipFill>
          <a:blip r:embed="rId2"/>
          <a:stretch/>
        </p:blipFill>
        <p:spPr>
          <a:xfrm>
            <a:off x="204840" y="1325520"/>
            <a:ext cx="3786120" cy="2249640"/>
          </a:xfrm>
          <a:prstGeom prst="rect">
            <a:avLst/>
          </a:prstGeom>
          <a:ln w="0">
            <a:noFill/>
          </a:ln>
        </p:spPr>
      </p:pic>
      <p:pic>
        <p:nvPicPr>
          <p:cNvPr id="170" name="Kuva 7" descr=""/>
          <p:cNvPicPr/>
          <p:nvPr/>
        </p:nvPicPr>
        <p:blipFill>
          <a:blip r:embed="rId3"/>
          <a:stretch/>
        </p:blipFill>
        <p:spPr>
          <a:xfrm>
            <a:off x="372960" y="4414680"/>
            <a:ext cx="3119400" cy="2427480"/>
          </a:xfrm>
          <a:prstGeom prst="rect">
            <a:avLst/>
          </a:prstGeom>
          <a:ln w="0">
            <a:noFill/>
          </a:ln>
        </p:spPr>
      </p:pic>
      <p:pic>
        <p:nvPicPr>
          <p:cNvPr id="171" name="Kuva 12" descr=""/>
          <p:cNvPicPr/>
          <p:nvPr/>
        </p:nvPicPr>
        <p:blipFill>
          <a:blip r:embed="rId4"/>
          <a:stretch/>
        </p:blipFill>
        <p:spPr>
          <a:xfrm>
            <a:off x="5021280" y="4414680"/>
            <a:ext cx="4141800" cy="24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914560" y="23940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Mikä energiarenessanssi?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7640" y="980640"/>
            <a:ext cx="8731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ltaosa 1960–1990 rakennetuista kerrostaloista on peruskorjauksen edessä lähivu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ahdollisuus rakennusten energiatehokkuuden parantamiseen kustannustehokkaa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eruskorjaukset yhden taloyhtiön ja omistajien lähtökohdista omana urakk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ähentää aluekohtaisten synergioiden hyödyntämismahdollisuuk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okonaisvaltaista pitkäjänteistä suunnittelua ei tehdä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aupungin tavoitteet eivät välity suunnitelmi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laajatahojen osaaminen ja motivaatio vaihte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hkäisee energiatehokkuustoimien toteuttamista urakoi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aloyhtiöt usein isännöitsijän vietävissä (ei-ammattilais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yhteistä tahtotilaa vaikea löytää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energianäkökulma ei pa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opivaa palvelutarjontaa ei aina löy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lyhytnäköisyys suunnittelussa, 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yödynnetä työvälineit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Kuva 2" descr=""/>
          <p:cNvPicPr/>
          <p:nvPr/>
        </p:nvPicPr>
        <p:blipFill>
          <a:blip r:embed="rId1"/>
          <a:stretch/>
        </p:blipFill>
        <p:spPr>
          <a:xfrm>
            <a:off x="4329000" y="4140360"/>
            <a:ext cx="481500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14560" y="23940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Mikä energiarenessanssi?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7640" y="980640"/>
            <a:ext cx="8731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Helsingin 30 % päästövähennysselvitys: Kaupunki käynnistää peruskorjausten yhteydessä Energiarenessanssia toteuttavan kehitysohjel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tunnistetaan lupaavimmat alueet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energiatehokkuuden parantamis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aktivoidaan alueiden kiinteistöjen omistajia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a asukkaita energiatehokkuuden parantamis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fasilitoidaan aluekohtaisia yhteisperuskorjaushankke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eruskorjaamalla lähiöitä ja kortteleita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yhteisprojekteina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peruskorjausten kokonaiskustannukset alenev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upunki voi toimia yhteishankkeiden riippumattomana ja luotettavana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fasilitaattorina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upunki voi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tukea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peruskorjauksien investointeja esim. omistustonttien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lisärakentamisoikeuksien ja vuokratonttien täydennysrakentamiskorvauksien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avu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upunki voi kehittää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parhaita konsepteja korjaamiseen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ottaen huomioon rakennusten kokonaisenergiankulutuks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Konseptoimalla korjaamistoimintaa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voidaan varmistaa myös eri suunnittelualojen yhteisty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ian numeron paikkamerkki 5"/>
          <p:cNvSpPr/>
          <p:nvPr/>
        </p:nvSpPr>
        <p:spPr>
          <a:xfrm>
            <a:off x="758880" y="6002280"/>
            <a:ext cx="18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bfbfbf"/>
                </a:solidFill>
                <a:latin typeface="Arial"/>
                <a:ea typeface="Arial"/>
              </a:rPr>
              <a:t>Photo: Rhinoceero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59280" y="21888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Miksi energiarenessanssi?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836280"/>
            <a:ext cx="8515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kee Helsingin energia- ja ilmastotavoitteita sekä Smart&amp;Clean tavoitte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elen Hanasaari sähkö+lämpö pitää korvata jollain 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ljon kustannustehokasta säästöpotentiaalia, merkitys kasvaa aj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aloyhtiöt tarvitsevat tukea pitkäjänteiseen suunnitteluun ja päätöksentek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oidaan yhdistää kestävään aluesuunnitteluun, vähentää korjausvelkaa, parantaa sisäilman olosuhteita ja vähentää asuinalueiden eriytymist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7CD8-A0BC-4B1E-A37A-B074F192DD5B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n numeron paikkamerkki 5"/>
          <p:cNvSpPr/>
          <p:nvPr/>
        </p:nvSpPr>
        <p:spPr>
          <a:xfrm>
            <a:off x="758880" y="6002280"/>
            <a:ext cx="18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bfbfbf"/>
                </a:solidFill>
                <a:latin typeface="Arial"/>
                <a:ea typeface="Arial"/>
              </a:rPr>
              <a:t>Photo: Rhinoceero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Kuva 2" descr=""/>
          <p:cNvPicPr/>
          <p:nvPr/>
        </p:nvPicPr>
        <p:blipFill>
          <a:blip r:embed="rId1"/>
          <a:stretch/>
        </p:blipFill>
        <p:spPr>
          <a:xfrm>
            <a:off x="217440" y="2852640"/>
            <a:ext cx="5732640" cy="4364280"/>
          </a:xfrm>
          <a:prstGeom prst="rect">
            <a:avLst/>
          </a:prstGeom>
          <a:ln w="0">
            <a:noFill/>
          </a:ln>
        </p:spPr>
      </p:pic>
      <p:pic>
        <p:nvPicPr>
          <p:cNvPr id="192" name="Kuva 6" descr=""/>
          <p:cNvPicPr/>
          <p:nvPr/>
        </p:nvPicPr>
        <p:blipFill>
          <a:blip r:embed="rId2"/>
          <a:stretch/>
        </p:blipFill>
        <p:spPr>
          <a:xfrm>
            <a:off x="5089680" y="2997360"/>
            <a:ext cx="3686040" cy="255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4:03:13Z</dcterms:created>
  <dc:creator>Huuska Petteri</dc:creator>
  <dc:description/>
  <dc:language>en-US</dc:language>
  <cp:lastModifiedBy>Huuska Petteri</cp:lastModifiedBy>
  <dcterms:modified xsi:type="dcterms:W3CDTF">2016-09-29T20:27:43Z</dcterms:modified>
  <cp:revision>96</cp:revision>
  <dc:subject/>
  <dc:title>PKS ja Helsingin ilmastotyö sekä Helen kehitysohjel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85FC14AC82B2847A9589F5EEDE5A60D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